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png" ContentType="image/png"/>
  <Override PartName="/ppt/media/image23.jpeg" ContentType="image/jpeg"/>
  <Override PartName="/ppt/media/image26.png" ContentType="image/png"/>
  <Override PartName="/ppt/media/image17.jpeg" ContentType="image/jpeg"/>
  <Override PartName="/ppt/media/image12.gif" ContentType="image/gif"/>
  <Override PartName="/ppt/media/image15.png" ContentType="image/png"/>
  <Override PartName="/ppt/media/image30.jpeg" ContentType="image/jpeg"/>
  <Override PartName="/ppt/media/image29.jpeg" ContentType="image/jpeg"/>
  <Override PartName="/ppt/media/image8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13.jpeg" ContentType="image/jpeg"/>
  <Override PartName="/ppt/media/image27.jpeg" ContentType="image/jpeg"/>
  <Override PartName="/ppt/media/image5.jpeg" ContentType="image/jpeg"/>
  <Override PartName="/ppt/media/image31.jpeg" ContentType="image/jpe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0C8-9ACD-4CD5-9F0F-6AA4EFA6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69A8-4463-47DB-9B34-048D898E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3C7-0DF3-4BAB-A3E2-E1C216FD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7A2-9A01-4AC0-8AF6-8A049E64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7D61-B580-4168-BFEF-26081B3F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35A-BAC2-49E7-892F-BAE3EAC6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9E0-4432-48B5-9E4E-25C19AFE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4D0-D43A-4F90-8EDC-BD9CDD0D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428-4B8F-46F3-9454-E2B3ED0A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548-DDC5-48C0-A369-B1448EDB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FBB-B31F-4C94-88A7-1343A5EF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3D3-B39F-4E4A-BCF4-0AA755EB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C42F-EE50-4338-830A-76A63650E8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" Target="slide32.xml"/><Relationship Id="rId8" Type="http://schemas.openxmlformats.org/officeDocument/2006/relationships/slide" Target="slide33.xml"/><Relationship Id="rId9" Type="http://schemas.openxmlformats.org/officeDocument/2006/relationships/slide" Target="slide34.xml"/><Relationship Id="rId10" Type="http://schemas.openxmlformats.org/officeDocument/2006/relationships/slide" Target="slide35.xml"/><Relationship Id="rId11" Type="http://schemas.openxmlformats.org/officeDocument/2006/relationships/slide" Target="slide36.xml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826920" y="839880"/>
            <a:ext cx="63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1565280" y="979560"/>
            <a:ext cx="6192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мире сказ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чебурашка - Марина Владимировна Корепина"/>
          <p:cNvPicPr/>
          <p:nvPr/>
        </p:nvPicPr>
        <p:blipFill>
          <a:blip r:embed="rId1"/>
          <a:stretch/>
        </p:blipFill>
        <p:spPr>
          <a:xfrm>
            <a:off x="3110040" y="2371680"/>
            <a:ext cx="3060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324000" y="189000"/>
            <a:ext cx="684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летая калачи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л парень на печ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атился по деревн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енился на царев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551520" y="3933720"/>
            <a:ext cx="238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м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Емеля. Голанс - фриланс биржа для удаленной работы."/>
          <p:cNvPicPr/>
          <p:nvPr/>
        </p:nvPicPr>
        <p:blipFill>
          <a:blip r:embed="rId1"/>
          <a:stretch/>
        </p:blipFill>
        <p:spPr>
          <a:xfrm>
            <a:off x="5651640" y="2781360"/>
            <a:ext cx="3093840" cy="3093840"/>
          </a:xfrm>
          <a:prstGeom prst="rect">
            <a:avLst/>
          </a:prstGeom>
          <a:ln w="0">
            <a:noFill/>
          </a:ln>
        </p:spPr>
      </p:pic>
      <p:sp>
        <p:nvSpPr>
          <p:cNvPr id="73" name="Стрелка влево 7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468360" y="404640"/>
            <a:ext cx="75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стоквашино живёт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у там свою несёт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-дом стоит у речк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льон в ней — дядя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5082480" y="3933720"/>
            <a:ext cx="285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чки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Game scenario"/>
          <p:cNvPicPr/>
          <p:nvPr/>
        </p:nvPicPr>
        <p:blipFill>
          <a:blip r:embed="rId1"/>
          <a:stretch/>
        </p:blipFill>
        <p:spPr>
          <a:xfrm>
            <a:off x="611280" y="321300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77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84360" y="260280"/>
            <a:ext cx="69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ала самовар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пасал ее кома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3274200" y="2060640"/>
            <a:ext cx="560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ха-Цокотух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Муха Цокотуха. Читать сказки К. Чуковского с картинками Сказ…"/>
          <p:cNvPicPr/>
          <p:nvPr/>
        </p:nvPicPr>
        <p:blipFill>
          <a:blip r:embed="rId1"/>
          <a:stretch/>
        </p:blipFill>
        <p:spPr>
          <a:xfrm>
            <a:off x="0" y="3657600"/>
            <a:ext cx="3905280" cy="32004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0" y="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уки он был печен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метане был мешен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кошке он студился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рожке он катил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598320" y="3789360"/>
            <a:ext cx="312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об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Разрешить написание латиницей Колобок, колобок, я тебе з'їм. - Выдра- я.ру"/>
          <p:cNvPicPr/>
          <p:nvPr/>
        </p:nvPicPr>
        <p:blipFill>
          <a:blip r:embed="rId1"/>
          <a:stretch/>
        </p:blipFill>
        <p:spPr>
          <a:xfrm>
            <a:off x="5867280" y="2349360"/>
            <a:ext cx="2989440" cy="321948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50920" y="40464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стяк живет на крыш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ает он всех выш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972720" y="3284640"/>
            <a:ext cx="312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лс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Моей душе покоя нет, пока не выключат инет. - Дом 2 новости"/>
          <p:cNvPicPr/>
          <p:nvPr/>
        </p:nvPicPr>
        <p:blipFill>
          <a:blip r:embed="rId1"/>
          <a:stretch/>
        </p:blipFill>
        <p:spPr>
          <a:xfrm>
            <a:off x="5651640" y="1844640"/>
            <a:ext cx="3097080" cy="376704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абиринт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Игротека Играем и развиваемся - Part 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Овал 4"/>
          <p:cNvSpPr/>
          <p:nvPr/>
        </p:nvSpPr>
        <p:spPr>
          <a:xfrm>
            <a:off x="6300720" y="5805360"/>
            <a:ext cx="14292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0.00763 C -0.03611 0.01064 -0.05902 0.01249 -0.08211 0.01411 C -0.09305 0.01665 -0.10452 0.01596 -0.11494 0.02081 C -0.15851 0.01965 -0.19757 0.01411 -0.23959 0.02081 C -0.24688 0.02382 -0.25191 0.03075 -0.25921 0.03376 C -0.26754 0.04532 -0.26893 0.04486 -0.28212 0.04694 C -0.30087 0.05596 -0.2908 0.05318 -0.32483 0.05781 C -0.3323 0.05596 -0.33646 0.05457 -0.34271 0.04925 C -0.34844 0.03746 -0.35452 0.03422 -0.36424 0.03168 C -0.37344 0.02312 -0.38421 0.02289 -0.39532 0.02081 C -0.40296 0.0222 -0.4106 0.02359 -0.41823 0.0252 C -0.42153 0.0259 -0.42535 0.02474 -0.42796 0.02728 C -0.43125 0.03029 -0.43125 0.03746 -0.43455 0.04046 C -0.43629 0.04185 -0.43785 0.04347 -0.43959 0.04486 C -0.44167 0.04925 -0.44879 0.06821 -0.45417 0.07098 C -0.45782 0.07283 -0.46198 0.07237 -0.4658 0.07307 C -0.47622 0.07237 -0.48646 0.07214 -0.49688 0.07098 C -0.50382 0.07029 -0.50556 0.06081 -0.51164 0.05781 C -0.52188 0.05272 -0.53386 0.05064 -0.54445 0.04694 C -0.55209 0.03977 -0.55435 0.03746 -0.56077 0.03168 C -0.5625 0.03029 -0.5658 0.02728 -0.5658 0.02728 C -0.56928 0.02012 -0.57362 0.01457 -0.57726 0.00763 C -0.5783 0.00301 -0.58195 -0.00046 -0.58212 -0.00532 C -0.58316 -0.03399 -0.58195 -0.04092 -0.57553 -0.06219 C -0.57379 -0.07376 -0.57223 -0.08509 -0.56737 -0.09503 C -0.56285 -0.11376 -0.5665 -0.13341 -0.57066 -0.15167 C -0.57223 -0.15838 -0.57379 -0.16485 -0.57553 -0.17133 C -0.57605 -0.17341 -0.57726 -0.1778 -0.57726 -0.1778 C -0.57605 -0.20231 -0.58004 -0.21156 -0.56893 -0.22589 C -0.55869 -0.2252 -0.5415 -0.22543 -0.52969 -0.2215 C -0.51337 -0.21595 -0.4981 -0.2067 -0.48212 -0.19977 C -0.47223 -0.19561 -0.46146 -0.19815 -0.45105 -0.19745 C -0.44167 -0.19977 -0.43247 -0.20185 -0.4231 -0.20416 C -0.41962 -0.20509 -0.4132 -0.20855 -0.4132 -0.20855 C -0.40591 -0.21826 -0.39862 -0.22011 -0.38872 -0.22381 C -0.33004 -0.22011 -0.36737 -0.22266 -0.33785 -0.21503 C -0.32587 -0.20416 -0.31667 -0.2067 -0.30018 -0.20416 C -0.28369 -0.19838 -0.26563 -0.20023 -0.24931 -0.20624 C -0.2474 -0.20693 -0.23785 -0.21156 -0.23455 -0.21295 C -0.23299 -0.21364 -0.22969 -0.21503 -0.22969 -0.21503 C -0.21841 -0.23769 -0.20799 -0.26127 -0.19358 -0.28046 C -0.19254 -0.28462 -0.19167 -0.29087 -0.18872 -0.29364 C -0.18473 -0.29734 -0.17987 -0.29942 -0.17553 -0.30243 C -0.16806 -0.30751 -0.16355 -0.31653 -0.15591 -0.31977 C -0.15487 -0.32208 -0.15417 -0.32485 -0.15261 -0.32647 C -0.15122 -0.32786 -0.14879 -0.3267 -0.14775 -0.32855 C -0.14636 -0.33087 -0.14653 -0.33433 -0.14601 -0.33734 C -0.14705 -0.34751 -0.14601 -0.35861 -0.14931 -0.36786 C -0.15348 -0.37965 -0.16771 -0.38058 -0.17553 -0.38312 C -0.19028 -0.39283 -0.18403 -0.38982 -0.19358 -0.39399 C -0.19896 -0.39884 -0.204 -0.40231 -0.21007 -0.40485 C -0.21164 -0.40717 -0.21303 -0.40971 -0.21494 -0.41156 C -0.21632 -0.41295 -0.21928 -0.41156 -0.2198 -0.41364 C -0.22275 -0.42705 -0.21893 -0.42659 -0.2132 -0.4289 C -0.20816 -0.43607 -0.204 -0.43607 -0.19844 -0.44208 C -0.19671 -0.44393 -0.19549 -0.44693 -0.19358 -0.44855 C -0.19011 -0.4511 -0.175 -0.45272 -0.17396 -0.45295 C -0.16528 -0.45688 -0.17049 -0.45387 -0.15921 -0.46381 C -0.15539 -0.46705 -0.15018 -0.46589 -0.14601 -0.46821 C -0.14375 -0.46936 -0.14167 -0.47098 -0.13959 -0.4726 C -0.13785 -0.47399 -0.13646 -0.47584 -0.13455 -0.47699 C -0.1257 -0.48231 -0.12292 -0.48162 -0.11337 -0.48347 C -0.1007 -0.48925 -0.09027 -0.49387 -0.07743 -0.49665 C -0.07013 -0.50127 -0.06284 -0.5052 -0.0559 -0.50982 C -0.0526 -0.51191 -0.04757 -0.5126 -0.04444 -0.51422 C -0.03993 -0.51676 -0.03124 -0.52277 -0.03124 -0.52277 C -0.02881 -0.53341 -0.02482 -0.53225 -0.01822 -0.53803 C -0.01076 -0.55098 -0.01545 -0.54474 -0.00347 -0.55561 C -0.00086 -0.55792 0.0007 -0.56185 0.00313 -0.56439 C 0.00955 -0.57133 0.01754 -0.57803 0.02448 -0.58404 C 0.03264 -0.6 0.04636 -0.60647 0.06042 -0.61017 C 0.06702 -0.61456 0.07343 -0.61549 0.08021 -0.61896 C 0.11042 -0.63422 0.11737 -0.63029 0.16042 -0.63214 C 0.16737 -0.63792 0.1658 -0.64069 0.17032 -0.64948 C 0.16945 -0.6652 0.17014 -0.69341 0.15556 -0.69965 C 0.1382 -0.71537 0.14532 -0.71237 0.12275 -0.71491 C 0.10591 -0.72046 0.08889 -0.72254 0.07205 -0.72809 C 0.03872 -0.72647 0.02448 -0.72509 -0.00503 -0.71722 C -0.01406 -0.71468 -0.02083 -0.70705 -0.02968 -0.70404 C -0.03715 -0.69734 -0.04427 -0.6948 -0.0526 -0.69087 C -0.06215 -0.67815 -0.05225 -0.68994 -0.06406 -0.68 C -0.08003 -0.66659 -0.06996 -0.67144 -0.08055 -0.66705 C -0.0901 -0.6541 -0.10226 -0.64462 -0.11337 -0.63422 C -0.1191 -0.62867 -0.12466 -0.62104 -0.13125 -0.61665 C -0.13629 -0.61318 -0.14237 -0.61248 -0.14775 -0.61017 C -0.14931 -0.60948 -0.15261 -0.60809 -0.15261 -0.60809 C -0.17657 -0.60971 -0.19948 -0.61503 -0.2231 -0.62104 C -0.23299 -0.63468 -0.2415 -0.6363 -0.25591 -0.63861 C -0.26511 -0.6437 -0.27014 -0.64624 -0.27882 -0.65387 C -0.28386 -0.6585 -0.2908 -0.65711 -0.29688 -0.65826 C -0.30504 -0.65988 -0.31337 -0.66127 -0.32153 -0.66266 C -0.33681 -0.66196 -0.35209 -0.66035 -0.36737 -0.66035 C -0.37605 -0.66035 -0.3849 -0.6615 -0.39358 -0.66266 C -0.39757 -0.66312 -0.40122 -0.66566 -0.40504 -0.66705 C -0.40678 -0.66774 -0.41007 -0.66913 -0.41007 -0.66913 E">
                                      <p:cBhvr>
                                        <p:cTn id="106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тературный</a:t>
            </a: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95840" y="189000"/>
            <a:ext cx="42832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ов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уч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д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нь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4816080" y="185760"/>
            <a:ext cx="3745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поч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ле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нышк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н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ч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доч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WWW.OPEN.AZ Версия для печати ***СмАйлИкИ"/>
          <p:cNvPicPr/>
          <p:nvPr/>
        </p:nvPicPr>
        <p:blipFill>
          <a:blip r:embed="rId1"/>
          <a:stretch/>
        </p:blipFill>
        <p:spPr>
          <a:xfrm>
            <a:off x="2050920" y="1568520"/>
            <a:ext cx="5516640" cy="5316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9"/>
          <p:cNvSpPr txBox="1"/>
          <p:nvPr/>
        </p:nvSpPr>
        <p:spPr>
          <a:xfrm>
            <a:off x="0" y="136440"/>
            <a:ext cx="914400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РИВЕТСТВИЕ КОМАН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утаница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53000" y="333360"/>
            <a:ext cx="271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АГ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190080" y="1341360"/>
            <a:ext cx="42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АЗО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34360" y="2276640"/>
            <a:ext cx="41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РМ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199800" y="3278160"/>
            <a:ext cx="40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КАЛ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195840" y="4286160"/>
            <a:ext cx="30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ЕЯ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38600" y="5294160"/>
            <a:ext cx="45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ТИБ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4761360" y="333360"/>
            <a:ext cx="271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ЕР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771800" y="1413000"/>
            <a:ext cx="42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ОЛУШ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4814640" y="2276640"/>
            <a:ext cx="41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РТЕМ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4751280" y="3278160"/>
            <a:ext cx="40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РЛС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4799880" y="4286160"/>
            <a:ext cx="30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М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4714200" y="5300640"/>
            <a:ext cx="45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УРАТИ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2"/>
          <p:cNvSpPr/>
          <p:nvPr/>
        </p:nvSpPr>
        <p:spPr>
          <a:xfrm>
            <a:off x="0" y="981000"/>
            <a:ext cx="9325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ак меня зовут?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50920" y="146160"/>
          <a:ext cx="8532720" cy="558648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6400"/>
                <a:gridCol w="1706760"/>
                <a:gridCol w="1706400"/>
              </a:tblGrid>
              <a:tr h="195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951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10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68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1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114" name="Стрелка вправо 2"/>
          <p:cNvSpPr/>
          <p:nvPr/>
        </p:nvSpPr>
        <p:spPr>
          <a:xfrm>
            <a:off x="5508720" y="5877000"/>
            <a:ext cx="2950920" cy="98100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403280" y="0"/>
            <a:ext cx="6396120" cy="4797360"/>
          </a:xfrm>
          <a:prstGeom prst="rect">
            <a:avLst/>
          </a:prstGeom>
          <a:ln w="0">
            <a:noFill/>
          </a:ln>
        </p:spPr>
      </p:pic>
      <p:sp>
        <p:nvSpPr>
          <p:cNvPr id="116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4068720" y="5300640"/>
            <a:ext cx="512316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бурашк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Викторины-&quot;ЦБС&quot; г. Ангарска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428472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знай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Рисуем людей и сказочные персонажи. - 22 May 2013 - Blog - Maldenthelar"/>
          <p:cNvPicPr/>
          <p:nvPr/>
        </p:nvPicPr>
        <p:blipFill>
          <a:blip r:embed="rId1"/>
          <a:stretch/>
        </p:blipFill>
        <p:spPr>
          <a:xfrm>
            <a:off x="0" y="0"/>
            <a:ext cx="4929120" cy="6237360"/>
          </a:xfrm>
          <a:prstGeom prst="rect">
            <a:avLst/>
          </a:prstGeom>
          <a:ln w="0">
            <a:noFill/>
          </a:ln>
        </p:spPr>
      </p:pic>
      <p:sp>
        <p:nvSpPr>
          <p:cNvPr id="122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4650480" y="5373720"/>
            <a:ext cx="417528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дяной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Мода мультфильмов (продолжение) / мульт фильм"/>
          <p:cNvPicPr/>
          <p:nvPr/>
        </p:nvPicPr>
        <p:blipFill>
          <a:blip r:embed="rId1"/>
          <a:stretch/>
        </p:blipFill>
        <p:spPr>
          <a:xfrm>
            <a:off x="-36360" y="0"/>
            <a:ext cx="482904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4942440" y="4618080"/>
            <a:ext cx="4047120" cy="2104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опольд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агадок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Фото 97979 &quot; Царевна Лягушка &quot; Сказки и Краски: Сказки мира"/>
          <p:cNvPicPr/>
          <p:nvPr/>
        </p:nvPicPr>
        <p:blipFill>
          <a:blip r:embed="rId1"/>
          <a:stretch/>
        </p:blipFill>
        <p:spPr>
          <a:xfrm>
            <a:off x="1116000" y="-27000"/>
            <a:ext cx="6804000" cy="5100480"/>
          </a:xfrm>
          <a:prstGeom prst="rect">
            <a:avLst/>
          </a:prstGeom>
          <a:ln w="0">
            <a:noFill/>
          </a:ln>
        </p:spPr>
      </p:pic>
      <p:sp>
        <p:nvSpPr>
          <p:cNvPr id="128" name="Стрелка влево 2"/>
          <p:cNvSpPr/>
          <p:nvPr/>
        </p:nvSpPr>
        <p:spPr>
          <a:xfrm>
            <a:off x="34920" y="6237360"/>
            <a:ext cx="2160720" cy="576360"/>
          </a:xfrm>
          <a:prstGeom prst="left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1116000" y="5084640"/>
            <a:ext cx="777708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аревна-лягушк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Мальчик с пальчик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131" name="Стрелка влево 2"/>
          <p:cNvSpPr/>
          <p:nvPr/>
        </p:nvSpPr>
        <p:spPr>
          <a:xfrm>
            <a:off x="34920" y="6093000"/>
            <a:ext cx="1800360" cy="720720"/>
          </a:xfrm>
          <a:prstGeom prst="lef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1908000" y="5869080"/>
            <a:ext cx="7272360" cy="1922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льчик-с-пальчик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Лаванда - это я - Форум - Обратная Сторона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0" y="0"/>
            <a:ext cx="4067280" cy="338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асна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апочка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ДЮЙМОВОЧКА - небольшой сценарий для детского теа"/>
          <p:cNvPicPr/>
          <p:nvPr/>
        </p:nvPicPr>
        <p:blipFill>
          <a:blip r:embed="rId1"/>
          <a:srcRect l="0" t="6407" r="0" b="6931"/>
          <a:stretch/>
        </p:blipFill>
        <p:spPr>
          <a:xfrm>
            <a:off x="0" y="-27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137" name="Стрелка влево 3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3203640" y="5540400"/>
            <a:ext cx="56894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юймовочка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Мафия 57. День второй. Пой, светик, но не тут."/>
          <p:cNvPicPr/>
          <p:nvPr/>
        </p:nvPicPr>
        <p:blipFill>
          <a:blip r:embed="rId1"/>
          <a:stretch/>
        </p:blipFill>
        <p:spPr>
          <a:xfrm>
            <a:off x="-36360" y="0"/>
            <a:ext cx="5648040" cy="6191280"/>
          </a:xfrm>
          <a:prstGeom prst="rect">
            <a:avLst/>
          </a:prstGeom>
          <a:ln w="0">
            <a:noFill/>
          </a:ln>
        </p:spPr>
      </p:pic>
      <p:sp>
        <p:nvSpPr>
          <p:cNvPr id="140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5309640" y="4549680"/>
            <a:ext cx="38138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т в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погах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Ульяновцам предлагают поближе познакомиться с героями сказок СимМама. Сайт Ульяновских родителей"/>
          <p:cNvPicPr/>
          <p:nvPr/>
        </p:nvPicPr>
        <p:blipFill>
          <a:blip r:embed="rId1"/>
          <a:stretch/>
        </p:blipFill>
        <p:spPr>
          <a:xfrm>
            <a:off x="1401840" y="0"/>
            <a:ext cx="6410160" cy="5516640"/>
          </a:xfrm>
          <a:prstGeom prst="rect">
            <a:avLst/>
          </a:prstGeom>
          <a:ln w="0">
            <a:noFill/>
          </a:ln>
        </p:spPr>
      </p:pic>
      <p:sp>
        <p:nvSpPr>
          <p:cNvPr id="143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2484360" y="5613480"/>
            <a:ext cx="66596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мей Горыныч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Оксана Миронова"/>
          <p:cNvPicPr/>
          <p:nvPr/>
        </p:nvPicPr>
        <p:blipFill>
          <a:blip r:embed="rId1"/>
          <a:stretch/>
        </p:blipFill>
        <p:spPr>
          <a:xfrm>
            <a:off x="0" y="0"/>
            <a:ext cx="9109080" cy="4960800"/>
          </a:xfrm>
          <a:prstGeom prst="rect">
            <a:avLst/>
          </a:prstGeom>
          <a:ln w="0">
            <a:noFill/>
          </a:ln>
        </p:spPr>
      </p:pic>
      <p:sp>
        <p:nvSpPr>
          <p:cNvPr id="146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1547640" y="5013360"/>
            <a:ext cx="7632720" cy="2104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ящая красавица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grafinya023: о Золушках"/>
          <p:cNvPicPr/>
          <p:nvPr/>
        </p:nvPicPr>
        <p:blipFill>
          <a:blip r:embed="rId1"/>
          <a:stretch/>
        </p:blipFill>
        <p:spPr>
          <a:xfrm>
            <a:off x="-36360" y="0"/>
            <a:ext cx="4032000" cy="6878520"/>
          </a:xfrm>
          <a:prstGeom prst="rect">
            <a:avLst/>
          </a:prstGeom>
          <a:ln w="0">
            <a:noFill/>
          </a:ln>
        </p:spPr>
      </p:pic>
      <p:sp>
        <p:nvSpPr>
          <p:cNvPr id="149" name="Стрелка влево 3"/>
          <p:cNvSpPr/>
          <p:nvPr/>
        </p:nvSpPr>
        <p:spPr>
          <a:xfrm>
            <a:off x="34920" y="630864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4"/>
          <p:cNvSpPr/>
          <p:nvPr/>
        </p:nvSpPr>
        <p:spPr>
          <a:xfrm>
            <a:off x="4643280" y="5373720"/>
            <a:ext cx="41054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олушка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Старые сказки на новый лад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4454640" y="0"/>
            <a:ext cx="468936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250920" y="333360"/>
            <a:ext cx="295272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дко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Орлёнок - газета для детей и подростков :: Новый Винни-пух"/>
          <p:cNvPicPr/>
          <p:nvPr/>
        </p:nvPicPr>
        <p:blipFill>
          <a:blip r:embed="rId1"/>
          <a:stretch/>
        </p:blipFill>
        <p:spPr>
          <a:xfrm>
            <a:off x="-36360" y="0"/>
            <a:ext cx="5310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4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лево 4"/>
          <p:cNvSpPr/>
          <p:nvPr/>
        </p:nvSpPr>
        <p:spPr>
          <a:xfrm>
            <a:off x="34920" y="623736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4413240" y="5657760"/>
            <a:ext cx="473076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нни-пух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692280"/>
          <a:ext cx="8532720" cy="525600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6400"/>
                <a:gridCol w="1706760"/>
                <a:gridCol w="1706400"/>
              </a:tblGrid>
              <a:tr h="2628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2627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10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49" name="Стрелка вправо 3"/>
          <p:cNvSpPr/>
          <p:nvPr/>
        </p:nvSpPr>
        <p:spPr>
          <a:xfrm>
            <a:off x="5651640" y="6021360"/>
            <a:ext cx="2808000" cy="8366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ДА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Новости / акции баров ресторанов кафе Перми"/>
          <p:cNvPicPr/>
          <p:nvPr/>
        </p:nvPicPr>
        <p:blipFill>
          <a:blip r:embed="rId1"/>
          <a:stretch/>
        </p:blipFill>
        <p:spPr>
          <a:xfrm>
            <a:off x="3768840" y="0"/>
            <a:ext cx="53751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0" y="0"/>
            <a:ext cx="457200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львина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2"/>
          <p:cNvSpPr/>
          <p:nvPr/>
        </p:nvSpPr>
        <p:spPr>
          <a:xfrm>
            <a:off x="0" y="981000"/>
            <a:ext cx="9325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А, ну-ка, угадай!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Скачать Снежная королева (1957) DVDRip от Torrent-Xzona КПК в категории мультики на BURN.CD Лучшие торренты на самом быстром бе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5"/>
          <p:cNvSpPr/>
          <p:nvPr/>
        </p:nvSpPr>
        <p:spPr>
          <a:xfrm>
            <a:off x="6156360" y="-27000"/>
            <a:ext cx="3024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3132000" y="-27000"/>
            <a:ext cx="302436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0" y="-27000"/>
            <a:ext cx="3132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8"/>
          <p:cNvSpPr/>
          <p:nvPr/>
        </p:nvSpPr>
        <p:spPr>
          <a:xfrm>
            <a:off x="6156360" y="1700280"/>
            <a:ext cx="3024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3132000" y="1700280"/>
            <a:ext cx="302436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3132000" y="3429000"/>
            <a:ext cx="302436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6156360" y="3429000"/>
            <a:ext cx="3024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2"/>
          <p:cNvSpPr/>
          <p:nvPr/>
        </p:nvSpPr>
        <p:spPr>
          <a:xfrm>
            <a:off x="6156360" y="5157720"/>
            <a:ext cx="3024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3"/>
          <p:cNvSpPr/>
          <p:nvPr/>
        </p:nvSpPr>
        <p:spPr>
          <a:xfrm>
            <a:off x="3132000" y="5157720"/>
            <a:ext cx="302436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4"/>
          <p:cNvSpPr/>
          <p:nvPr/>
        </p:nvSpPr>
        <p:spPr>
          <a:xfrm>
            <a:off x="0" y="1700280"/>
            <a:ext cx="3132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5"/>
          <p:cNvSpPr/>
          <p:nvPr/>
        </p:nvSpPr>
        <p:spPr>
          <a:xfrm>
            <a:off x="0" y="3429000"/>
            <a:ext cx="3132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6"/>
          <p:cNvSpPr/>
          <p:nvPr/>
        </p:nvSpPr>
        <p:spPr>
          <a:xfrm>
            <a:off x="0" y="5157720"/>
            <a:ext cx="3132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8" descr="Смайлики, картинка 432"/>
          <p:cNvPicPr/>
          <p:nvPr/>
        </p:nvPicPr>
        <p:blipFill>
          <a:blip r:embed="rId1"/>
          <a:stretch/>
        </p:blipFill>
        <p:spPr>
          <a:xfrm>
            <a:off x="1187280" y="1550880"/>
            <a:ext cx="6851880" cy="4973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1"/>
          <p:cNvSpPr txBox="1"/>
          <p:nvPr/>
        </p:nvSpPr>
        <p:spPr>
          <a:xfrm>
            <a:off x="0" y="119160"/>
            <a:ext cx="914400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АГРАЖД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4" descr="Сказка о мертвой царевне и о семи богатырях мультфильм - смотреть анимешек"/>
          <p:cNvPicPr/>
          <p:nvPr/>
        </p:nvPicPr>
        <p:blipFill>
          <a:blip r:embed="rId1"/>
          <a:stretch/>
        </p:blipFill>
        <p:spPr>
          <a:xfrm>
            <a:off x="1403280" y="1523880"/>
            <a:ext cx="6667560" cy="53341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15"/>
          <p:cNvSpPr txBox="1"/>
          <p:nvPr/>
        </p:nvSpPr>
        <p:spPr>
          <a:xfrm>
            <a:off x="0" y="0"/>
            <a:ext cx="914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олодцы!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трелка влево 1">
            <a:hlinkClick r:id="rId1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179280" y="189000"/>
            <a:ext cx="612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 маленьких дет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 птичек и звер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озь очки свои гляди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 доктор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762480" y="3933720"/>
            <a:ext cx="317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йболи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Ответы@Mail.Ru: А это только у меня одной слово &quot;катаклизмы&quot;…"/>
          <p:cNvPicPr/>
          <p:nvPr/>
        </p:nvPicPr>
        <p:blipFill>
          <a:blip r:embed="rId3"/>
          <a:stretch/>
        </p:blipFill>
        <p:spPr>
          <a:xfrm>
            <a:off x="5762520" y="1125360"/>
            <a:ext cx="33814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95280" y="26028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совсем нетрудны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енький вопрос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в чернила суну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й но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лево 2">
            <a:hlinkClick r:id="rId1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970560" y="4365720"/>
            <a:ext cx="35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рати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Буратино!, фото от 17 мая vorotila.ru"/>
          <p:cNvPicPr/>
          <p:nvPr/>
        </p:nvPicPr>
        <p:blipFill>
          <a:blip r:embed="rId3"/>
          <a:stretch/>
        </p:blipFill>
        <p:spPr>
          <a:xfrm>
            <a:off x="5796000" y="1628640"/>
            <a:ext cx="2952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403280" y="260280"/>
            <a:ext cx="691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и к бабушке пошла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и ей понесл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ый Волк за ней следил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анул и проглот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564000" y="335772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ас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поч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Евпатория. Детский сад 2 &quot;Золотой ключик&quot; - Class Красная шапочка"/>
          <p:cNvPicPr/>
          <p:nvPr/>
        </p:nvPicPr>
        <p:blipFill>
          <a:blip r:embed="rId1"/>
          <a:stretch/>
        </p:blipFill>
        <p:spPr>
          <a:xfrm>
            <a:off x="0" y="3067200"/>
            <a:ext cx="2857680" cy="379080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95280" y="47628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простым моим вопросо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тратишь много сил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мальчишку с длинным носо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ена смастери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4429080" y="3933720"/>
            <a:ext cx="417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па Карл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Коллекционные куклы полимерная глина, Куклы и игрушки ручной работы"/>
          <p:cNvPicPr/>
          <p:nvPr/>
        </p:nvPicPr>
        <p:blipFill>
          <a:blip r:embed="rId1"/>
          <a:stretch/>
        </p:blipFill>
        <p:spPr>
          <a:xfrm>
            <a:off x="468360" y="3500280"/>
            <a:ext cx="3240000" cy="3241800"/>
          </a:xfrm>
          <a:prstGeom prst="rect">
            <a:avLst/>
          </a:prstGeom>
          <a:ln w="0">
            <a:noFill/>
          </a:ln>
        </p:spPr>
      </p:pic>
      <p:sp>
        <p:nvSpPr>
          <p:cNvPr id="65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684360" y="4046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разбойник, он злод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стом он пугал люд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19080" y="3141720"/>
            <a:ext cx="438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овей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бой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Про Соловья-разбойника - urb_a - Сохраненная запись в кэше Ljrate.ru"/>
          <p:cNvPicPr/>
          <p:nvPr/>
        </p:nvPicPr>
        <p:blipFill>
          <a:blip r:embed="rId1"/>
          <a:stretch/>
        </p:blipFill>
        <p:spPr>
          <a:xfrm>
            <a:off x="5364000" y="1844640"/>
            <a:ext cx="3095640" cy="3981600"/>
          </a:xfrm>
          <a:prstGeom prst="rect">
            <a:avLst/>
          </a:prstGeom>
          <a:ln w="0">
            <a:noFill/>
          </a:ln>
        </p:spPr>
      </p:pic>
      <p:sp>
        <p:nvSpPr>
          <p:cNvPr id="69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5T06:25:16Z</dcterms:created>
  <dc:creator>001</dc:creator>
  <dc:description/>
  <dc:language>en-US</dc:language>
  <cp:lastModifiedBy>Таня</cp:lastModifiedBy>
  <dcterms:modified xsi:type="dcterms:W3CDTF">2015-02-22T06:31:13Z</dcterms:modified>
  <cp:revision>42</cp:revision>
  <dc:subject/>
  <dc:title>Слайд 1</dc:title>
</cp:coreProperties>
</file>